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4ECC-1655-4B68-8740-95D6E4AF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186-F265-464E-85BB-300AF3FC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765E-120F-4ED6-BD64-F19E0F51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476D-687E-418E-882F-DC4BC351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9582-9295-44D4-90D9-5DC238EF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EAF-B848-452C-8C1D-2FD0DB7A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AAF6-C509-4654-914C-5C0C97B6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D69-375B-420A-A09C-78362EBD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AEB6-ECF0-43C3-BE9D-56A0D5E0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4F4-D5FD-4F0A-8FDA-4DAF2F01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7260-4161-4E7E-A2E3-D95E4E91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52BA-59A0-4D10-9B5C-303B00A8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E6BE-2EBD-45D3-B489-D68804A90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factmonster.com/atlas/country/jordan.html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200400" y="990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or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ome of  Am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80880" y="380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p of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867280" y="457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p of reg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057400" y="2514600"/>
            <a:ext cx="426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Country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Government: Constitution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ditary monar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apital:  Am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anguage: Arabic/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eligions: Islam92% Christian6% other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iteracy Rate: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atural Resources: phosphates, potash, shale, 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Flag of Jordan"/>
          <p:cNvPicPr/>
          <p:nvPr/>
        </p:nvPicPr>
        <p:blipFill>
          <a:blip r:embed="rId2"/>
          <a:stretch/>
        </p:blipFill>
        <p:spPr>
          <a:xfrm>
            <a:off x="0" y="5153040"/>
            <a:ext cx="4800600" cy="170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Map of Jorda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0"/>
            <a:ext cx="3276720" cy="2895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Map of Jordan, Middle Eastern Countries"/>
          <p:cNvPicPr/>
          <p:nvPr/>
        </p:nvPicPr>
        <p:blipFill>
          <a:blip r:embed="rId5"/>
          <a:srcRect l="58115" t="54772" r="30917" b="26195"/>
          <a:stretch/>
        </p:blipFill>
        <p:spPr>
          <a:xfrm>
            <a:off x="5334120" y="0"/>
            <a:ext cx="3809880" cy="2604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http://www.google.com/url?source=imglanding&amp;ct=img&amp;q=http://upload.wikimedia.org/wikipedia/commons/thumb/9/9c/JordanIslam.png/120px-JordanIslam.png&amp;sa=X&amp;ei=nlmwTuvbNqGhsQKz55CtAQ&amp;ved=0CAsQ8wc&amp;usg=AFQjCNGE3s9kLh2uZwp8bbkkr0ZxDC1sRg"/>
          <p:cNvPicPr/>
          <p:nvPr/>
        </p:nvPicPr>
        <p:blipFill>
          <a:blip r:embed="rId6"/>
          <a:stretch/>
        </p:blipFill>
        <p:spPr>
          <a:xfrm>
            <a:off x="228600" y="3124080"/>
            <a:ext cx="2019240" cy="1219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1" descr="http://www.google.com/url?source=imglanding&amp;ct=img&amp;q=http://wwwdelivery.superstock.com/WI/223/1792/PreviewComp/SuperStock_1792-97605.jpg&amp;sa=X&amp;ei=fVqwTuS2FqqFsALJueTIAQ&amp;ved=0CAsQ8wc4SA&amp;usg=AFQjCNFr21n8DZj7VZFkGQQI4NxvRMKHLg"/>
          <p:cNvPicPr/>
          <p:nvPr/>
        </p:nvPicPr>
        <p:blipFill>
          <a:blip r:embed="rId7"/>
          <a:stretch/>
        </p:blipFill>
        <p:spPr>
          <a:xfrm>
            <a:off x="6095880" y="25909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1"/>
          <p:cNvSpPr/>
          <p:nvPr/>
        </p:nvSpPr>
        <p:spPr>
          <a:xfrm>
            <a:off x="0" y="4572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scent and star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791320" y="61498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nathan 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6172200" y="5257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son being bapt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BHISD</cp:lastModifiedBy>
  <dcterms:modified xsi:type="dcterms:W3CDTF">2011-11-08T20:59:48Z</dcterms:modified>
  <cp:revision>22</cp:revision>
  <dc:subject/>
  <dc:title>Slide 1</dc:title>
</cp:coreProperties>
</file>